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401-728F-40CA-9244-E938ED2E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9C3-06F0-4E86-8E85-2FD28347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4FBD7-B94B-4EE9-A306-700E7B37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5AB42-2B5F-40AE-B351-A2505726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D1C9E-4E8D-4BFF-BD80-E96C1D3C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383EE-F092-46B0-84B0-DCA582EF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11B6E-C6F2-45E8-BC1D-172D6121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444B2-317E-4853-B21B-610AF58F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BAAB9-6D4C-420B-A5A3-1EC18800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6091B9-3CA0-4477-ABE7-96394BC4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C497B-2519-4A55-86D8-35D8F1B9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B14D2-8E7D-49A1-B5A0-16D78F1D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EAF1-D961-44DD-A870-4AF64E74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4FA33E-AFD2-4E2C-879D-A6E4C69B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90BCC-F746-4498-8C1E-9785EE71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7B242-BC96-4467-803A-72B0F177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5169B-48AF-467F-BB6E-B573CC09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25BAA-C646-4079-8525-370D1845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A40F3-4645-4D94-944D-2A313BE6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687CAB-60F9-4606-9239-428E8747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D86CCD-FF0C-4E40-A35E-1A2CF7DF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B861A-85E8-4BBE-A5F1-07D82E9B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58348-8782-482D-934D-F2F6E4651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CAF-572B-46F1-A758-28AFE856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5DBCA-2E44-467A-A5FD-DC692AC10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9334B-70B9-41BD-A924-3F0DFBC9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9B742-AB4E-4A82-B38E-41D5A786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8D331-08FD-4753-84BC-502AE431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5C68C-E29B-4256-B593-A78616CD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51A9E-6B2B-420F-B212-7EC16996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25B72-2C82-4CD1-81AA-ECA1A648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B2105-ADE8-45C5-A23F-7F115EE3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51034-B1AB-47AA-A3B0-35A4F9F9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A4F20-4F3E-4047-9788-ABF67F55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9A0C-4167-47CF-8FE3-8AF113F6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EA389-AEF2-4DAB-8682-72B78A81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6C140-D4CA-4BB0-B2C1-3A6A3F53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1DE98-D098-4FEE-803A-ABD1EC1F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C5DC6-E0A0-49D3-AEC7-D8583C27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66473-9C02-4492-AEE7-1E98419C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10A92-E973-457B-93FB-F310021E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60741-54CD-4DD3-98CD-4A231D9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6331C-FFF0-4AB2-B5B3-5265FB53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259D8-3E1B-4087-B829-94AAF95A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AC6EE-C7B2-4680-8F43-27114EBF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B06F-6B61-42ED-9DB9-7299AC7D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7FD7A-78A1-408F-96AC-3D81CE64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48EF8-F645-4281-8F6E-F48AA737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D8AE2-B2B4-4A49-849B-95F85023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9FECC-3FC0-482D-90F6-CFFF32B3C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69742-EC1F-41CF-B56C-ACB0FCB7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B225A-8435-4051-8BF9-1A19BE32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FEAD9-5986-4306-994F-BAAD8923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A329F-5B56-4E12-9A2E-DD032404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ACC59-EDEA-4766-8703-7063C45A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F0DAA6-F59E-414F-89F3-B790C0C1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BB5B-6CE4-4526-877F-343BC2EE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357D6-1DEA-4011-81B0-B7C0A98B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AB16B-CF45-447A-AD9F-C35F465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B6E6E-3A87-4685-BAC2-FC0366A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682DB-4A83-4A9D-B033-193726D0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BBA7D-0165-42A5-B138-F2808C30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9BCA8-E8FB-4622-BBC7-D90F7DA9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3BDC4-ADA6-4F5D-A1C5-23F23FDF8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43C63-9A9A-4DD4-B149-F35DEAB2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A37426-E26C-40D0-89F0-037C60EA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4DDBF-3D17-4401-AC9C-5DB9ECA0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934D-0730-4C35-8324-DD69AEC5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34B19-79B0-4C51-B7A3-B3BCA9ED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3AD22-2A39-4A3D-9B1F-389DA5CE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2D6B9-E349-4B93-8839-6B32E5BA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4F602E-0E18-4A9D-8823-0F4BDA4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671A6-A490-401B-ABF6-97C2E02B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8E7A96-2684-446D-B5B5-9C83B11C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7C649-D1B5-4D90-AD60-A92DB098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4B0CF-6A17-44CC-BE70-B403B797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50291-5F3C-4A24-96C3-C9F128EB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8D2D9-2F17-470B-90B6-C7E49B77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048F-8FCC-4496-8865-FBC5AEA2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30A34-7D8E-40E6-9B5E-D0AE65E4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33E9F1-34B2-41F9-9F44-59016B08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7CBF9C-7AE8-438E-A89D-F5990673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EC436C-4DA2-4D0D-99E4-DCEDCF82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3E500-91E5-4067-AE48-381C134D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ECA2EC-F087-444D-9770-C8CDAA0B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4BD55-2C3F-40F0-A150-410097D7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AA1E1-CE42-432C-8F93-CEAF829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D6E1E-C2B4-4869-9EAD-D47D888B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4E2AE-0688-4E59-A4A9-432D418E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F1D3-7720-4200-98A6-E4D497C5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C7371A-604C-417D-973E-A4157C49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DC0C7D-3012-4FF6-9708-CF03EA3E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431F8-6303-4271-AC24-18B13B1A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3DF6C-DC21-49F9-A8BD-BB5CF6AF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667CF-E688-4E34-B442-43E69E57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911F9-B83C-4936-886C-E355AD4F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DFD329-3996-4EA8-BBCA-7F637A6E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C148F-2C9E-4E83-B231-0BE82753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9A3D11-7EF2-4073-9C7E-97D6672C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20C7E-DC55-4EB5-AC03-0002C868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34B9-8FEB-4A42-AF69-5CB0C5E0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BDE0D-A475-4369-BEFE-E27D1EAB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817EF4-30E7-4897-A481-E6C30B153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0420F-26D6-4AE4-86C3-7BF393FB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C153E-6D65-425A-88D6-82E84A16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BD490-8108-4EF0-947C-DFF69109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4CD9C4-32B4-4CCD-A69D-14081359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15B51-3464-4079-BD82-0D942296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68F04-DC5C-4C61-AE59-BE7D2DCB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007D2-287B-43EB-BDC4-D72D11ED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0EFC24-05DC-4DD7-A19A-84E70AE2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54A0-4C95-43BA-94D5-F6CB996D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816E-675C-4F76-A263-7CC21D1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464446-1E07-4238-B403-85BD1C9F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5440D-4FB9-4BD9-BD2A-DF52D82B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9C3FE0-111E-4B15-A5B4-0A7AE71D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E69A5B-67F4-4774-BC49-E2D83C1C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A6E4C0-CC0A-49D0-9708-F4C6DD5F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EEC06-78EF-497B-8AB9-7AEDC4D9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B2E51-5CF5-4EDD-8609-4584A507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29DBE-13BD-430B-BB81-84ACF822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DDA7AB-A445-4559-81CF-6840079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2A7F4B-4C5F-4A74-B7B7-56316AD1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5CCE-316B-4318-B033-7889E608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E53E6-C5BD-4140-BF8A-FE134F86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2D975-C2E6-4D57-87B3-2C41D700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A9BA40-DB0C-4AA8-A5BD-C69B756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229779-9246-4E9E-A8F3-9056151E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79AA29-EB4A-4C78-AA7B-85082E94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CBD10-25EE-4AD8-B494-C642933B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4D585D-6C32-4232-91AA-167671E6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E8874A-9250-49E5-AE8E-CD864986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9D2E17-A19E-41D0-920F-BBB8B205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907583-4957-4372-814A-66B5C5D3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BCDC-DC54-4192-9547-7B34E3CB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D3390F-A33C-4F43-8B26-2E22A57D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F6A57D-D2A1-4D31-A92E-82962231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F8D596-88E0-4120-9341-A6F82E1F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B57BC-DC05-46A0-846A-22A80E20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E8B9C-7F33-4E05-A077-E7C4537C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88B94E-F3DB-45BD-9DE6-130EBA38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FBD0FF-D32C-4DD4-B091-43D99846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AC93C4-6BC6-4AA8-8ED7-9704B58B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BD6065-1B60-40C4-B375-1CD6A8E1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EA8D0C-10BC-4B6F-B712-9257FC9F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5AD0-E775-4969-A92B-E9EA8B06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623A1E-E371-4FC9-B276-15343A14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281177-C161-4AA4-81AE-1F7D7A1E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26089-21C1-47C0-8477-432FFC27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1D13E9-773D-4903-AA83-F41966B1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9FBB9-8DC0-4C0F-B232-8D3E05C5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B36A35-797B-4803-8480-D181C932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A2387-E57E-4957-B2ED-CB17EE82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332ED8-6985-429C-93FA-C5BF7039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2C9BA6-61B8-4EDC-BB04-67A97194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CB5E52-B40E-403F-B6F7-656B750D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343B-9754-453F-8179-FCE9E5A3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367D1-4499-4884-B8FB-AA242C70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071395-0998-4384-BB5B-B6A33189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704FA9-83D5-4723-B9F9-17423057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B62DF6-10D7-4D53-8AC3-A6FE37F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EC380-D898-4F6B-BA5B-2679FBA7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A238CB-8F01-4FDC-824C-813C1180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57DF0-AA0D-4BD3-A8F3-B158A1B6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9F589E-A672-46E5-A144-BAEF71F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486EAD-6EF4-4A4F-B2F1-C97FC9A1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BD7C12-B8F2-4140-887B-BB92D863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B0F91-2278-47C2-8EA6-9E128EA8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2DFECE-D53C-4F46-BAB4-413F30BF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D9DCFF-967F-4DE5-84AB-124F554F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5E15F1-29B4-44E3-8F7D-7DCFD9D9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4206-F687-4E91-848F-89B2A641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2878B-5593-44A8-9968-7B59C889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78E6F-EB71-4A33-9F6F-C592163D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34191-BB5A-4C9E-BAFE-90D37343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ADE-F3AC-4C2E-90DB-955F880E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1B77-1798-4393-BE4E-EC26EBA5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F270-E819-4AD9-BBA6-35A750BB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6EFA-7629-42C6-AE01-445FB949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D04A-C853-444E-A93D-39D40BD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7302E-9BCC-495E-9F62-32B0CE28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C5E1-33AE-49AC-A34A-5B1335A5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43856-931B-4281-9EE3-D9B4A6787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F3941-C21A-46B7-A547-9AFB4BDC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747CC-F3F2-4789-A7F8-358958A7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1F4F-2A03-4A56-8BFB-C44C6698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5AF-56F6-4EED-AB74-8ED9CDBF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93540-C7C8-40B4-B03B-C90BCB86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24F19-5515-41E1-9901-912E76F8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E3A60-DFD1-44F0-A129-DEC846AF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D807A-85D2-4A2F-9354-A14F8C89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A8102-E36F-44A8-8539-94D53385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6540B-6341-4112-B5BE-062C38B0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80AF-9AE9-461A-AF29-A3D07B4F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B87F5-6B2D-4623-BF17-40959800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7051-CB29-403A-B26C-9B004E567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C1A8A-24C6-4F60-85EE-EBA93FBA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3867-04BA-4E78-A6F1-60943BCF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5A66A-97F9-48CD-909F-592D1F6E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AFD67-E6C9-48F7-8F10-E2F467CB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74C7E-5408-47E7-BDAE-2E28DDE4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A22DA-782E-43A9-8556-2AB8BA7B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2E5F2-8F7D-402D-9E53-5FC7CCD1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12C0F-587E-4087-B5D3-ADC27C57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DC7E-DF01-4390-919D-015A637D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4A516-B848-49E0-B967-990F203D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A288C-B1AD-48DA-A862-B5A92E04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94AE7-D96D-461D-94F7-D28494C6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C3F-6162-49CA-8987-ADDC4794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0EC2A-460F-40F3-B35E-4A0FC2F5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B486D-0730-4ED0-97F7-C1ED6018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BA1F-EAC1-453A-AED4-DE4CAB21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8712A-6E61-4B51-AD88-C8614954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7BCF-4353-4627-AFA1-B2DE0558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CFBE3-020C-4C7D-959E-BAC28FAD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5F57C-FE20-42F6-ADD2-1494FA77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DE791-7588-4C9D-B716-340BF32C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0956-B86C-42DC-8CFF-06A288B4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0CFB-4B97-4D88-A455-43DF43B3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7C3B-37FE-488A-AB74-085C9F29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DA3C1-8D93-48FD-A811-739BE836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7FF10-1F9B-4783-9D80-ACEE5DAA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D2B5-6851-4811-B1A3-49C966C4A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A554E-4222-46FE-A44D-80052924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85EEA-5F2B-4BEE-816B-194E6950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E3A6E-3D29-4DBA-B606-5A052D32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489C5F-8B77-4DF3-8934-CF9C17FE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A5ED4-02C3-4D85-BE2D-B3C72692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3A6C6-CE3E-4DF9-9C8E-6100C7C8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15065-958B-43AC-A92D-EBDCF29F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157B-A189-463F-A51C-53EBED12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0CB54-2789-49AE-83AB-588F9898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CBB78-1E8E-4C84-85A7-D09DA691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4DCA5-A180-4F58-955A-472DE91DC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24C73-7B80-4DDB-844F-7B7BB3FE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6E259-F862-4837-838D-3F669009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18ED2-6FCD-4F25-BA85-FA98795B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0DEAA-5C72-4C5D-8176-5B1117A9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2950B-3AF0-4F0C-BD99-BB17D7FA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3DA49-6EC9-4FAE-B261-A6445E93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A40CC-1AD7-47CE-8A52-FB6C4EC3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4680-8CE5-4794-A986-F5DC520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EBBCA-5531-4BAD-8F74-0448CBF5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F5DB7-B07A-4593-86F0-537E8303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65C3D-783C-469C-B7BD-5CE71075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1541A-33E0-417C-8FC4-A1C289AE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69071-03D6-439D-BCB9-3276ED33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F9AC0-216A-405B-BA1B-D1665253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E4FCA-D5AA-4AFE-8E60-05D5513C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13B4C-10C1-4296-8D4E-BA888479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37AF5-58B4-4EF4-B01E-4DB1A3EC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3CF7A-2B71-45AA-9621-86FD7897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4713-9F68-41BD-A4C6-846D860B7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E470-D3F8-4660-9CE7-B5534292B7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A543-68CA-4BB5-818A-F96C410048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563F-EED8-491B-AB8A-2C9BF8A27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76F4-7B3E-424F-BF1B-B8665A5BAC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CE28-0111-48F2-A9CE-27DA0AD50F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F982-B0C6-45BB-8475-AE300C4254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8714-B00B-483F-B716-7F7AFC1BEE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5091-3E9B-4ACF-9280-061E7E8B7C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6BEC-0A11-46BD-87F7-CBFC466B59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9665-C3C9-4B75-98E1-486CA58E5C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28F9-572A-42D5-9172-3EEEC6B512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6A00-C564-497B-94B7-3DD76BC19F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3C17-1E8C-4CE3-BA57-4BF5B42CF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73A5-1CCB-49D9-8BF1-84BD9C6696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CF3C-4255-4EB4-8EEE-12A1D8D3EB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212F-DE63-4ACC-8B8B-8CDC6CB177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ACD8-4E13-4EA0-8B42-08EA4A176D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69F0-EDED-4F00-830D-F0A9ED7F5B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00C3-3F96-458F-B4B3-9EC6A9724F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F84D-5A92-4DEA-9129-1277A7A2D1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FBCC-231E-4616-BFC2-510095BF3F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B45B-C040-43F5-9A8F-77733B5C9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D509-7C6E-4E2C-8A70-AFC0E448EE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1617-49A2-42BA-AAF5-1BB23B2093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168F-BCCB-4029-A4E8-ADBDE18229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3515-2AA7-411C-AED3-9C045B84C7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17DE-55F1-4855-AD62-D00663B4A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C5A7-2A43-4C80-A213-B5CD500BF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BBA6-9560-48C2-AC42-CA3923A516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49BD-0C29-4181-A8CB-85924CC6E7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E623-3E47-4A7A-8969-2465F25434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5140-F4AE-4A47-B6E3-ADE32F56F3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B76E-DEB3-42F2-8607-4998EC2231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2F7D6-CA20-43CB-A166-D87CC30073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3436-DDE3-452A-AD8B-2D5F4FE532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2687-26C5-4B00-91EF-6154344191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5C61-CABB-4970-BB32-07A0B311E8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CFBA-7B43-4A23-A6D2-1606E0DA39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62D9-9607-43BE-BCDE-D66EC339EC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61920" y="3114720"/>
            <a:ext cx="89028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4100" descr=""/>
          <p:cNvPicPr/>
          <p:nvPr/>
        </p:nvPicPr>
        <p:blipFill>
          <a:blip r:embed="rId2"/>
          <a:stretch/>
        </p:blipFill>
        <p:spPr>
          <a:xfrm>
            <a:off x="423720" y="1424160"/>
            <a:ext cx="8296560" cy="4009680"/>
          </a:xfrm>
          <a:prstGeom prst="rect">
            <a:avLst/>
          </a:prstGeom>
          <a:ln w="0">
            <a:noFill/>
          </a:ln>
        </p:spPr>
      </p:pic>
      <p:sp>
        <p:nvSpPr>
          <p:cNvPr id="1029" name="直接连接符 4101"/>
          <p:cNvSpPr/>
          <p:nvPr/>
        </p:nvSpPr>
        <p:spPr>
          <a:xfrm>
            <a:off x="2584440" y="2565360"/>
            <a:ext cx="1411200" cy="5763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直接连接符 4102"/>
          <p:cNvSpPr/>
          <p:nvPr/>
        </p:nvSpPr>
        <p:spPr>
          <a:xfrm flipV="1">
            <a:off x="2600280" y="2708280"/>
            <a:ext cx="1395360" cy="936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直接连接符 4103"/>
          <p:cNvSpPr/>
          <p:nvPr/>
        </p:nvSpPr>
        <p:spPr>
          <a:xfrm flipV="1">
            <a:off x="2570040" y="4221000"/>
            <a:ext cx="1440000" cy="649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4104"/>
          <p:cNvSpPr/>
          <p:nvPr/>
        </p:nvSpPr>
        <p:spPr>
          <a:xfrm flipV="1">
            <a:off x="5148360" y="2852280"/>
            <a:ext cx="2404800" cy="1871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5"/>
          <p:cNvSpPr/>
          <p:nvPr/>
        </p:nvSpPr>
        <p:spPr>
          <a:xfrm>
            <a:off x="5292720" y="3730680"/>
            <a:ext cx="2232000" cy="7779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333360" y="1581120"/>
            <a:ext cx="8477280" cy="3695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258920" y="3213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1332000" y="4292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282600" y="1042920"/>
            <a:ext cx="8580240" cy="43815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4643280" y="292428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7596360" y="2924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1763640" y="4869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4643280" y="48830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7596360" y="494172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666720" y="2419200"/>
            <a:ext cx="78105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04760" y="2057400"/>
            <a:ext cx="8934480" cy="27432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332000" y="3156120"/>
            <a:ext cx="6192720" cy="4489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187280" y="4249800"/>
            <a:ext cx="6193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9:40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